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CA8-7EB5-467A-9A63-D1A563A1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330-5257-48AB-BC8A-239846DF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237-34BD-42DD-8D96-446DADD2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ADF-CFA2-4B40-ADD6-95C7C8C8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E56-D1B1-481C-9F8A-70B0A5BA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120-B8ED-455D-8B4E-8BE408E6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6B6-6161-409B-9DB3-AD52A16A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C45-C855-480C-AA84-2C313637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28B-7C78-42A4-B13E-DE86DBE4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CA0-9B39-4946-B9F6-709399EE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021-91BD-4437-A090-A03B3605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9AB-A091-46B0-9809-B0E1E333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1619-1834-464B-A679-36BD0A6CD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37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1373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3842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8513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3880" y="2590920"/>
            <a:ext cx="59436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2362320"/>
            <a:ext cx="739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veryone has an enforceable ________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conform his or her condu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the law's requirement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523880" y="2743200"/>
            <a:ext cx="5943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means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endant intend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commit the ac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2057400"/>
            <a:ext cx="5943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in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know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erence betw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ght and wrong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3880" y="2057400"/>
            <a:ext cx="59436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nt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pac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the 3 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criminal ac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52480" y="167652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#1 Du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#2 Breach of Du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#3 Criminal I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f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bbe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mbezzl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rimes again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ement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inal Ac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143000" y="2514600"/>
            <a:ext cx="6858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rgl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inal Trespa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rimes again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52480" y="28954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l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ea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 Eva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ju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rimes against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90720" y="2514600"/>
            <a:ext cx="7238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Govern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adulent S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olation of FDA Law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rimes again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752480" y="2362320"/>
            <a:ext cx="54104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su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ga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scen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stit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rimes again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447920" y="2209680"/>
            <a:ext cx="6095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cenc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28800" y="1066680"/>
            <a:ext cx="53341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aul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dnapp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rd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rimes again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1447920"/>
            <a:ext cx="70866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ssific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ri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057400" y="2895480"/>
            <a:ext cx="4876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er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28800" y="1523880"/>
            <a:ext cx="55627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o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orderly Condu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legal Speed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rimes again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51460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ubl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ace/Ord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19320" y="1523880"/>
            <a:ext cx="66294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rime punishable by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finement for 1+ yea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,000 + fi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th or dea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514600" y="2666880"/>
            <a:ext cx="39625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lon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219320" y="2057400"/>
            <a:ext cx="69339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less serious crime punishable by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finement for up to a ye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es of $1,000 or l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143000" y="2743200"/>
            <a:ext cx="6781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demean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8080" y="1523880"/>
            <a:ext cx="76201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llest form of a cri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unishable by fines on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th no risk of jail ti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066680" y="2438280"/>
            <a:ext cx="7010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ra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523880" y="2209680"/>
            <a:ext cx="6172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other name f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business crim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43000" y="1828800"/>
            <a:ext cx="6858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ssific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rimes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828800" y="220968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te-Col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066680" y="1676520"/>
            <a:ext cx="71629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type of larcen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 a building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tered w/o permissio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438280" y="2666880"/>
            <a:ext cx="40388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rgl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914400" y="1828800"/>
            <a:ext cx="76201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e where a per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tains money by ly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out a past/existing fac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438280" y="1981080"/>
            <a:ext cx="40388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l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eten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14400" y="1676520"/>
            <a:ext cx="7620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rime where money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fered to influenc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formance of an official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438280" y="2438280"/>
            <a:ext cx="40388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ibe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8080" y="167652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taining $ or othr proper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om a person by wrongful 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force, fear or power in offic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438280" y="2590920"/>
            <a:ext cx="40388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tor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762120" y="1828800"/>
            <a:ext cx="7772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used voluntarily gi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p their right to a publ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ial to avoid the risk of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eater penalty if convict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sin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l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828800" y="2057400"/>
            <a:ext cx="54100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rgai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90720" y="2743200"/>
            <a:ext cx="7467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 penalty provided by law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sed by the cour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828800" y="2895480"/>
            <a:ext cx="54100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unish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828800" y="2286000"/>
            <a:ext cx="5410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erson has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stitutional right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828800" y="2438280"/>
            <a:ext cx="5410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14400" y="1981080"/>
            <a:ext cx="75438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witness who refuses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stify after being gran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munity faces a charg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mp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89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371600" y="2743200"/>
            <a:ext cx="6324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reasonable gr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 belief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828800" y="2286000"/>
            <a:ext cx="5410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bab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in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ced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14400" y="2286000"/>
            <a:ext cx="7543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ense based on proble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th the way evidence was obtain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905120" y="2514600"/>
            <a:ext cx="5257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cedur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8080" y="1905120"/>
            <a:ext cx="75438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ense where the use of for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pears to be necessary to prev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rm or death to the victi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219320" y="2514600"/>
            <a:ext cx="6781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f-Defen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8080" y="1981080"/>
            <a:ext cx="7696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eedom from prosec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ven when one has commit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rime as charg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905120" y="2514600"/>
            <a:ext cx="5257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mun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1600200"/>
            <a:ext cx="7315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ists if a verifiable ment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ition of the accused cau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lack of mental inten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905120" y="2057400"/>
            <a:ext cx="5257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in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an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914400" y="1981080"/>
            <a:ext cx="74674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ense used to desprov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ustify or excuse the alleg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e against th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905120" y="2514600"/>
            <a:ext cx="5257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stan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52480" y="2362320"/>
            <a:ext cx="5257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en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057400" y="99072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3581280"/>
            <a:ext cx="784872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To convict a person of a crime, the evidenc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must establish their guilt with proof that i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_________________________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1373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371600" y="2286000"/>
            <a:ext cx="67816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eyond a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asonable Doub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4320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lements o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riminal Ac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lassificatio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f Crim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lassificatio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f Crimes (2)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usines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late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rim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rim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ocedu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924680" y="457200"/>
            <a:ext cx="914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efens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00200" y="2514600"/>
            <a:ext cx="60199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unishable offen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gainst socie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udsd</cp:lastModifiedBy>
  <dcterms:modified xsi:type="dcterms:W3CDTF">2009-02-25T18:56:03Z</dcterms:modified>
  <cp:revision>49</cp:revision>
  <dc:subject/>
  <dc:title>No Slide Title</dc:title>
</cp:coreProperties>
</file>